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95C-6CB2-4156-B037-7A1FE2A3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417-758C-4207-8D3F-CAEDE669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C22-73CD-42DA-8CC9-7B6D1966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E57-4816-4FBC-9112-7020FB78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77A80-4333-48C9-B5E4-7F1CDA90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5EB4B-EBC0-44B8-9FD4-3F63ED8C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80B88-053F-4CA4-A25C-70077B0D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A7F52-AD1D-4F40-A411-7B21E414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5F0F0-7927-48A2-9D74-16736F21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B8BB0-7424-4353-B236-AA1B07D7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E87FF-6C16-4E73-9781-2AA22ED6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B532-B469-4055-8BF9-AFB720FE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48A01-DCB1-4002-9216-2C8ABF16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16282-9B76-4C41-A893-E47DDC0B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FE846-E8FF-4D4F-8465-5FF09DC9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AE0FF-AB29-42B6-867D-98B7A640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C24DC-1844-4840-869B-DE768A3F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6E645-8DCB-4B59-85E9-DEE7315A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C39F6-A889-4413-BB73-83A69742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3807F-E939-414E-8FCD-66A90BB2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E59A6-B829-4259-A805-C3C1073F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0A717-5737-410F-966E-2373E9BA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D974-E4D5-4B70-B1C9-FCB6FF89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6C5B3-504A-4431-9B65-B3AAD217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16774-FEDD-4FC7-9BC2-15F59686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74742-F286-44E5-8B73-908AB183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E72FD-4B62-4B26-B8A9-981BD9FB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8196D-6CC7-4F3D-B12F-6CE946BA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1C1FC-9917-4911-AADA-F0A8577F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11CE4-2341-4E6A-91AB-E0D0CE06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73E907-5631-4580-AD54-87D0D73D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BDC7C6-F61C-407B-B56D-639B596F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84C23D-8B71-4B66-978C-F2F7B09A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C1DC-3A82-4682-9769-6D72FA0E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5A889B-7DE4-43A9-A2EF-5B009579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BC316E-8EC8-4E2E-A4CA-11B4857F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198D85-E3AC-43D6-B8D4-E211B08F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93BF43-7EE8-487E-AD18-2BEADE98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9A875B-ED95-4699-ABBC-FA2D620A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6D6A51-4F9E-47C7-8B01-B6B54204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AFDEAC-4240-4E8D-A44C-D77A7B18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467659-D778-40BD-95E7-65C14973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6A82E2-10E5-4D01-B010-518C8F47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A692-3356-467F-AB46-AD8EF29F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FA4-BDB6-4E85-9053-E4AC6360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8A07-CF68-4FB4-ACF2-D0E668CA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BCF4-1F3E-4748-B6E9-316291E5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A98-D53A-49ED-8CB2-7063C41B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E5DC-C59B-4200-8E78-A8296F3192E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2612-BE1D-435E-B98D-165778B5310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864C-D25A-4166-8987-D064C4EA487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00DA-252E-4D37-80C5-27397D51259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удовлетворенность условиями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служебной эт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трудового законодатель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аниченность рес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ия в целях, ценностях, воспит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озависимость зада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огласите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нападения (четкая аргументац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разубежд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отсроч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подробного анализа (если сторона готовы к сотрудничеству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ктивного соучастия (если факт соучастия важнее чем результат)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ерсонализации (с наиболее конфликтными личностям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менение конфликтогено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ямое негатив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нисходитель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нторск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честность, неискр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ушения этических и этикетных нор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рессивное повед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Конфликтная ситуация + инциден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С – объекты и субъекты конфликта + разногласия в позициях, целях, интересов и т.д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рансакц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единица взаимодействия партнеров по общению, сопровождающаяся заданием их пози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Основные пози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дитель – требует, оценивает, осуждает, одобряет, руководит, учит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зрослый – работает с информацией, анализирует, рассуждает, аргументиру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бенок (Дитя) – проявляет чувства (обиды, вины..), шалит, своенравен, извиняется в ответ на замечания, задает вопросы : «почему я?», «За что меня наказали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48320" y="1600200"/>
          <a:ext cx="4038480" cy="19000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4076640"/>
          <a:ext cx="4038480" cy="20494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Line 57"/>
          <p:cNvSpPr/>
          <p:nvPr/>
        </p:nvSpPr>
        <p:spPr>
          <a:xfrm flipV="1">
            <a:off x="5003640" y="2349360"/>
            <a:ext cx="316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5076720" y="2492280"/>
            <a:ext cx="316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5003640" y="57340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60"/>
          <p:cNvSpPr/>
          <p:nvPr/>
        </p:nvSpPr>
        <p:spPr>
          <a:xfrm flipH="1">
            <a:off x="5076360" y="4292640"/>
            <a:ext cx="3240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998800"/>
          <a:ext cx="2303640" cy="31654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Line 93"/>
          <p:cNvSpPr/>
          <p:nvPr/>
        </p:nvSpPr>
        <p:spPr>
          <a:xfrm>
            <a:off x="1258920" y="393372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4"/>
          <p:cNvSpPr/>
          <p:nvPr/>
        </p:nvSpPr>
        <p:spPr>
          <a:xfrm flipH="1">
            <a:off x="1403280" y="3860640"/>
            <a:ext cx="1440000" cy="18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енаправленное, обусловленное объективными законами воздействие на динамику в интересах развития или разрушения той социальной системы, к которой имеет отношение данны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ение конфликтами включает следующие виды деятель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197000"/>
          <a:ext cx="8229600" cy="5661000"/>
        </p:xfrm>
        <a:graphic>
          <a:graphicData uri="http://schemas.openxmlformats.org/drawingml/2006/table">
            <a:tbl>
              <a:tblPr/>
              <a:tblGrid>
                <a:gridCol w="442800"/>
                <a:gridCol w="2880000"/>
                <a:gridCol w="3097080"/>
                <a:gridCol w="18097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управл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 разв.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ование, 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ьная – 92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- 46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к- 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ер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е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да -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шение – совместная деятельность  участников, направленная на прекращение противодействия и решение проблемы, приведшей к столкнове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егулирование – принимает участие третья стор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тухание  - истощение ресурсов, потеря мотива, переориентация мотив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анение – ликвидация основных структурных эле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растание в друго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тка Томаса-Килмен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74680" y="17604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4"/>
          <p:cNvSpPr/>
          <p:nvPr/>
        </p:nvSpPr>
        <p:spPr>
          <a:xfrm>
            <a:off x="250920" y="386064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ло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0920" y="198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2700360" y="285264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роми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219640" y="386064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посо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5219640" y="1989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11280" y="5373720"/>
            <a:ext cx="7345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11280" y="544500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12000" y="5445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956720" y="1916280"/>
            <a:ext cx="0" cy="324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8028000" y="1557360"/>
            <a:ext cx="720720" cy="13669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6920"/>
              <a:gd name="textAreaBottom" fmla="*/ 1332000 h 1366920"/>
            </a:gdLst>
            <a:ahLst/>
            <a:rect l="textAreaLeft" t="textAreaTop" r="textAreaRight" b="textAreaBottom"/>
            <a:pathLst>
              <a:path w="21600" h="40957">
                <a:moveTo>
                  <a:pt x="3600" y="0"/>
                </a:moveTo>
                <a:arcTo wR="3600" hR="3600" stAng="16200000" swAng="-5400000"/>
                <a:lnTo>
                  <a:pt x="0" y="37357"/>
                </a:lnTo>
                <a:arcTo wR="3600" hR="3600" stAng="10800000" swAng="-5400000"/>
                <a:lnTo>
                  <a:pt x="18000" y="4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028000" y="3860640"/>
            <a:ext cx="720720" cy="13464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 ее помощью можно наметить стратегию, этапы и способы разреше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блема конфлик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инная причина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йствительные участн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линные потребности и опасения сторо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жличностные отношения участников до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ношение к конфликту лиц, не участвующих, но заинтересованных в положительном его разреш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гресс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алобщ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разгневанный ребенок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ксимал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чу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тайный мст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ложный альтруист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хронический обвин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551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97000"/>
          <a:ext cx="9123480" cy="5661000"/>
        </p:xfrm>
        <a:graphic>
          <a:graphicData uri="http://schemas.openxmlformats.org/drawingml/2006/table">
            <a:tbl>
              <a:tblPr/>
              <a:tblGrid>
                <a:gridCol w="3111480"/>
                <a:gridCol w="6012000"/>
              </a:tblGrid>
              <a:tr h="4348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я дефицита информации в конфликте; исключение из информационного поля ложной, искаженной информации; устранение слухов и т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общения между субъектами конфликтного взаимодействия и их сторонниками; обеспечение эффективн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псих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неформальными лидерами и микрогруппами, снижение социальной напряженности и укрепления социально-психологического климата в коллекти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кадровых вопросов; использование методов поощрения и наказания; изменение условий взаимодействия сотрудников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249120" y="-189000"/>
            <a:ext cx="8450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реальной практике по управлению конфликтами важно учитывать предпосылки, формы и способы их разрешен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статочная зрелость конфли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требность субъектов конфликта в его разрешен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необходимых средств и ресурсов для разрешения конфли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007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ничтожение или полное подчинение одной из сторон (уступка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ование интересов и позиций конфликтующих сторон на новой основе (компромисс, консенсус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ное примирение конфликтующих сторон (уход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 борьбы в русло сотрудничества по совместному преодолению противоречий (сотрудничество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дминистративный (увольнение, перевод на другую работу, решение суда и т. п.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едагогический (беседа, убеждение, просьба, разъяснение и т. п.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горитм деятельности руководителя в процессе управления конфликтами зависит от многих факторов — содержания самого конфликта, условий его возникновения и развития и многих други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1974960"/>
          <a:ext cx="9144000" cy="4884480"/>
        </p:xfrm>
        <a:graphic>
          <a:graphicData uri="http://schemas.openxmlformats.org/drawingml/2006/table">
            <a:tbl>
              <a:tblPr/>
              <a:tblGrid>
                <a:gridCol w="858960"/>
                <a:gridCol w="3305160"/>
                <a:gridCol w="4979880"/>
              </a:tblGrid>
              <a:tr h="503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(методы)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причин возникновения конфли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, анализ результатов деятельности; беседа; изучение документов; биографический метод, то есть изучение биографических данных участников конфликт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 числа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лидерами в микрогруппах; перераспределение функциональных обязанностей; поощрение или наказани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ый анализ конфликта с помощью экспе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экспертов; привлечение медиатора, психолога, переговорный процесс (медиация)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ятие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е методы; педагогические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ивные моти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сторо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в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цессе управленческой деятельности по разрешению конфликтов и в выборе алгоритма такой деятельности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руководител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учитывать следующие принципы управления конфлик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ивности и адекватности оценки конфлик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кретно-ситуационного подход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с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мократического воздействия, опоры на общественное мнени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плексного использования способов и приемов воздейств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844640"/>
          <a:ext cx="9144000" cy="4822920"/>
        </p:xfrm>
        <a:graphic>
          <a:graphicData uri="http://schemas.openxmlformats.org/drawingml/2006/table">
            <a:tbl>
              <a:tblPr/>
              <a:tblGrid>
                <a:gridCol w="4908600"/>
                <a:gridCol w="4235400"/>
              </a:tblGrid>
              <a:tr h="395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ороннее суждение руководителя о подчиненных (как правило, только с точки зрения того, как они выполняют его указ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понять мотивы конфликтующих и оценить динамику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руководителя в конфликте как члена коллектива и как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связанные с субъективной оценкой предмета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мление как можно быстрее погасить конфл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часто приводящие к наказанию «правых» и «виноват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 с конфликтующими (симпатии, антипатии дружба и т. 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проявляющиеся в предвзятом отношении к одному из участников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74680" y="85680"/>
            <a:ext cx="8412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3352680"/>
            <a:ext cx="8169120" cy="1809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Формулы конфлик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52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огенов (КФГ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оген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слова, действия (или отсутствие действий), которые могут привести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КФГ2 &gt; КФГ1(, КФГ3&gt; КФГ2 и т. д. (Закон эскалации конфликтоген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9132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4"/>
          <p:cNvSpPr/>
          <p:nvPr/>
        </p:nvSpPr>
        <p:spPr>
          <a:xfrm>
            <a:off x="826920" y="2781360"/>
            <a:ext cx="7345440" cy="93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ФГ1      КФГ2      КФГ3     …      К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>
            <a:off x="2195280" y="3249360"/>
            <a:ext cx="432360" cy="1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54" name="Стрелка вправо 7"/>
          <p:cNvSpPr/>
          <p:nvPr/>
        </p:nvSpPr>
        <p:spPr>
          <a:xfrm>
            <a:off x="2268360" y="3176640"/>
            <a:ext cx="432000" cy="1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99564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74668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6754680" y="3141720"/>
            <a:ext cx="4813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1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употребляйте конфликтоге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2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отвечайте конфликтогеном на конфликтоге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отметить, что по наблюдениям специалистов, 80 % конфликтов возникает помимо желания их участников и по вышеприведенной формул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ной ситуации (КС) и инцидента (И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нфликтная ситуа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накопившиеся противоречия, связанные с деятельностью субъектов социального взаимодействия и создающие почву для реального противоборства между ни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цидент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стечение обстоятельств, являющихся поводом для конфлик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3"/>
          <p:cNvSpPr/>
          <p:nvPr/>
        </p:nvSpPr>
        <p:spPr>
          <a:xfrm>
            <a:off x="2268360" y="2781360"/>
            <a:ext cx="4391280" cy="718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 + И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4920" y="692280"/>
          <a:ext cx="9109080" cy="6165720"/>
        </p:xfrm>
        <a:graphic>
          <a:graphicData uri="http://schemas.openxmlformats.org/drawingml/2006/table">
            <a:tbl>
              <a:tblPr/>
              <a:tblGrid>
                <a:gridCol w="4216320"/>
                <a:gridCol w="4892760"/>
              </a:tblGrid>
              <a:tr h="453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конфликт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бросовестное исполн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трудовой дисциплины Брак в рабо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стиль 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ки в подборе и расстановке кадров Ошибки в организации контроля Просчеты в планировании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декватное представление о конкретных ситу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авильные оценки, суждения о действиях других субъектов социального взаимодействия Ошибки в выводах относительно конкрет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-психологические особенност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принятых в социальной группе правил взаимоотношений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ая профессиональн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к в работе Неспособность принять адекватное 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7"/>
          <p:cNvSpPr/>
          <p:nvPr/>
        </p:nvSpPr>
        <p:spPr>
          <a:xfrm>
            <a:off x="2063880" y="874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конфликтных ситуа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нескольких конфликтных ситуаций (КС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&gt; 2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мма двух или более конфликтных ситуаций приводит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6"/>
          <p:cNvSpPr/>
          <p:nvPr/>
        </p:nvSpPr>
        <p:spPr>
          <a:xfrm>
            <a:off x="1692360" y="2637000"/>
            <a:ext cx="5400720" cy="720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1 + КС2 + ... + КС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такое отношение между субъектами социального взаимодействия, которое характеризуется их противоборством на основе противоположно направленных мотивов (потребностей, интересов, целей, идеалов, убеждений) или суждений (мнений, взглядов, оценок и т. п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составу участнико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и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ду личностью и групп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групп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длительности и напряженност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рные быстротекущ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е длитель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вял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быстр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1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 зависимости от сферы проявл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оном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де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ей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социальных последств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едме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алистичные (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реалистичные (бес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ичи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ны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ичины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явления, события, факты, ситуации, которые предшествуют конфликту и, при определенных условиях деятельности субъектов социального взаимодействия, вызывают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экономические и полит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демограф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ндивиду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37:26Z</dcterms:created>
  <dc:creator>User</dc:creator>
  <dc:description/>
  <dc:language>en-US</dc:language>
  <cp:lastModifiedBy>Iren</cp:lastModifiedBy>
  <dcterms:modified xsi:type="dcterms:W3CDTF">2020-04-09T10:58:29Z</dcterms:modified>
  <cp:revision>20</cp:revision>
  <dc:subject/>
  <dc:title>Конфликты и пути их разрешения.</dc:title>
</cp:coreProperties>
</file>